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05E-755E-4DF3-8FE3-8DCD8AB3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2FB-CA4C-4994-B8E0-2F75364F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6D4-5A75-4FD0-A8AA-498E78F7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0E2-3FC2-4DB0-A9E6-F7993E3C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9050-610E-4B63-A06B-080B1F0A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4AC8-114E-4EB2-815F-90A98795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E6AF-2B82-4334-96A8-79CB38B9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73FE-A347-4997-AE6F-1AD44E8D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70B0-A520-4209-818A-85FBC1E1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F51E-ED38-4B8B-8240-298F7922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6F42-9A43-43E8-8E04-9253FE5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A0F-428C-4AFB-ACB3-7C9E979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CC7A-8260-422C-9FCB-33E2C0CF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E2AA-B14F-474D-85A1-39D5EA8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38DE-AB2A-41B9-9DFE-48D52976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F1E8-5F8D-49E2-9D21-938E2B60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0811-A971-48D1-A52D-6C70D555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2964-C2CE-4690-BDC7-A439AD1A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DC62-CEDF-4CCE-8ED2-7062ECB5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57EF-0D5C-485C-89BA-DF54E545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56E2-C637-45AC-A620-34F80B34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E254-B97D-48E3-B6DB-C5B9A97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EF5-BE71-4F17-AF18-BD0662E8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41ED-6749-4F76-82D9-45EA0B91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5FBF-3455-4054-AAA1-B29EC968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1841-BA7C-46CB-AFB8-98482B25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4079-A06C-44F1-A7FE-7C8707EB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4976-FD85-4DF3-9240-0A833D88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2C04-5C58-4266-B49E-2EF4B911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7517-54F7-4B39-AEDF-169EB4AB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F3CCA-798D-4386-BF21-0779FCEF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8F020-CEA2-497B-9E7A-6782C32D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FCCA-CCAC-4A8D-A534-8C8FA409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45F-5F16-41CA-9E9F-4B960D82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943D1-4EAF-4090-8C1D-3A51E77E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595D-2C1E-4590-8F02-D24E80E9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BCF9-FF8D-44C1-96A6-E5BBB1D3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EF20-FF23-4AB6-84BF-B28AA5D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2B6D-1A6D-4340-93D8-D4A6D8D9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67FD-7B3B-42E7-A4E8-22FEE327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320E-A9AA-4510-9383-C5D6041E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7DC8E-18CF-4955-8EF5-DAE3138A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4BD7-B422-46B5-B134-7881CEFA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F6C38-8EED-40E3-8B77-2BFAAF05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813-D709-4B2B-A59A-804BF76E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8E8A-30E6-404E-BED6-A4125295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F639-FB01-4851-A984-9B319945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45199-9AA2-428E-8321-38F1E79C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11E41-51D4-482E-B621-266ED992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453D-3F44-47DA-B555-2FFBDF42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4EAC3-723E-46B5-A48B-ED47587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CA5F-5E10-491A-9AA5-834673DB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3CE6D-2A46-41D9-B3BD-84C42B44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3D43-9C6B-48CE-8862-7C643A67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3649-4F3A-45C6-9DF5-88FC3FEE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160-86EE-4043-B70E-906634AD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2693-A952-4BFC-9DCB-794FE982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B71-25B4-42B1-A998-AFE98F66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18D-737E-4B6A-A30B-4895078E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BE6-BE5C-45EB-B1D7-38A3AEA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374-C621-41B3-85EB-DCA6066E1485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3B4-C026-4942-AB76-CF68597B77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AA0B-1E89-4373-897F-80B06F4BC0E4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1F2D-AE96-4D90-98C6-2CEC57D8AD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368A-AA44-42C2-BF86-8EF93AECAEA8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1842-0F05-4A6D-B3C4-92016D2045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6DF4-A0E9-4370-B173-F07B7780DEC6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7423-081D-4B19-A5DC-0E519DAC0834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2DFE-A1A5-48AA-A3B3-61DC3A5E161B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037F-419F-48F2-923F-FE7DC35F8F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jeopardylabs.com/play/unit-2-review24" TargetMode="External"/><Relationship Id="rId2" Type="http://schemas.openxmlformats.org/officeDocument/2006/relationships/hyperlink" Target="http://www.superteachertools.com/jeopardy/usergames/Apr201216/game1334595708.php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quia.com/hm/181561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évision unité 2 et 3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Youpi!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9" name="Picture Placeholder 4" descr="crime scene.jpg"/>
          <p:cNvPicPr/>
          <p:nvPr/>
        </p:nvPicPr>
        <p:blipFill>
          <a:blip r:embed="rId1"/>
          <a:srcRect l="6652" t="15985" r="6458" b="0"/>
          <a:stretch/>
        </p:blipFill>
        <p:spPr>
          <a:xfrm>
            <a:off x="2416320" y="1239840"/>
            <a:ext cx="4444920" cy="35607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descendr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75040" y="1038240"/>
            <a:ext cx="5203800" cy="3191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écaill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over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5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3073320" y="1149480"/>
            <a:ext cx="2924280" cy="30416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griff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8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1792440" y="1100160"/>
            <a:ext cx="5486400" cy="3438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jumeaux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1" name="Picture Placeholder 4" descr="crime scene.jpg"/>
          <p:cNvPicPr/>
          <p:nvPr/>
        </p:nvPicPr>
        <p:blipFill>
          <a:blip r:embed="rId1"/>
          <a:srcRect l="47691" t="37637" r="0" b="0"/>
          <a:stretch/>
        </p:blipFill>
        <p:spPr>
          <a:xfrm>
            <a:off x="2400480" y="619200"/>
            <a:ext cx="4244760" cy="4181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poils/poilu(e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1792440" y="938160"/>
            <a:ext cx="5486400" cy="3676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 loup-garou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7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689200" y="938160"/>
            <a:ext cx="3692520" cy="3676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oreilles pointu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1792440" y="950760"/>
            <a:ext cx="5486400" cy="3651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e pat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22480" y="950760"/>
            <a:ext cx="5025960" cy="36514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a queu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6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131920" y="1166760"/>
            <a:ext cx="4807080" cy="31878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un</a:t>
            </a: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 maquilleur/le maquilleur en chef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242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haracters in Cris et Friss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790560"/>
            <a:ext cx="752184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Réginald: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directeur de Logi-clique, toujours poli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manque d’argent et risque de perdre sa compagn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a fais des voyages secre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Fernand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Génie de l’informatique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Vaniteux, ambitieux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ux contrôler la compagn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a développé des jeux électroniq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Cyril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Gardien de sécurité, très sérieux, brusque, et très désagréab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es employés n’ont pas une vie privée au travail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il les surveille tout le tem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9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664000" y="790560"/>
            <a:ext cx="3825720" cy="40100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e vedet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2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386080" y="1006560"/>
            <a:ext cx="4583160" cy="3578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moule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5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935440" y="1166760"/>
            <a:ext cx="3200400" cy="31878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naîtr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a peau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9" name="Picture Placeholder 6" descr="un bruit.jpeg"/>
          <p:cNvPicPr/>
          <p:nvPr/>
        </p:nvPicPr>
        <p:blipFill>
          <a:blip r:embed="rId1"/>
          <a:stretch/>
        </p:blipFill>
        <p:spPr>
          <a:xfrm>
            <a:off x="1803240" y="612720"/>
            <a:ext cx="54644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1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87640" y="1251000"/>
            <a:ext cx="4714920" cy="35496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tombe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4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76480" y="1251000"/>
            <a:ext cx="4738680" cy="35496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a pleine lun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7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76480" y="1251000"/>
            <a:ext cx="4738680" cy="3549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 requi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257560" y="1251000"/>
            <a:ext cx="4375080" cy="35496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 réalisateur/ un cinéas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257560" y="1649520"/>
            <a:ext cx="4375080" cy="2752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effets spéciaux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918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haracters in cris et friss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639360"/>
            <a:ext cx="75218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Mei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ntelligente, superficielle, vanite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lle achète impulsivement beaucoup d’articles très c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onia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a meilleure programme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olitaire, réservée, introvert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mployé modè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Manu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n’est plus enthousias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es idées n’ont pas eu de succè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est tris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erbes suivis d’une préposi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099800"/>
            <a:ext cx="75218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Rempli les tirets suivants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Nous décidons ______  commencer par le bureau de Réginald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Vous devez _____ parler à l’inspecteur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Ils apprennent _____ voler les bijoux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On essayer _____ récupérer les informations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Je continue _____ chercher.</a:t>
            </a: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543040" y="1608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345400" y="4411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226960" y="3687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2497680" y="3073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assé composé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22000" y="1100160"/>
            <a:ext cx="81406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Franklin Gothic Book"/>
              </a:rPr>
              <a:t>HV + PP = PC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NEED TWO PARTS ALWAYS!!!!!!!!!!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Passé Composé with </a:t>
            </a:r>
            <a:r>
              <a:rPr b="1" lang="fr-CA" sz="1600" spc="-1" strike="noStrike" u="sng">
                <a:solidFill>
                  <a:srgbClr val="ff0000"/>
                </a:solidFill>
                <a:uFillTx/>
                <a:latin typeface="Franklin Gothic Book"/>
              </a:rPr>
              <a:t>Avoir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Franklin Gothic Book"/>
              </a:rPr>
              <a:t>Verbes réguliers: 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R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É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R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I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RE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U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Not on our irregular list we copied from the overhead? Treat it as a regular verb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rbes irréguliers, including any « compound » verbes (i.e. : commettre, apprendre, souffrir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Passé Composé with </a:t>
            </a:r>
            <a:r>
              <a:rPr b="1" lang="fr-CA" sz="1600" spc="-1" strike="noStrike" u="sng">
                <a:solidFill>
                  <a:srgbClr val="ff0000"/>
                </a:solidFill>
                <a:uFillTx/>
                <a:latin typeface="Franklin Gothic Book"/>
              </a:rPr>
              <a:t>Être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rbes réguliers et irréguli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ES ACCORDS!!!!    Masc sing: -- RIEN --      fem sing: E      masc pl: S        fem pl: ES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ris et frissons jeopard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jeopardylabs.com/play/unit-2-review24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2"/>
              </a:rPr>
              <a:t>http://www.superteachertools.com/jeopardy/usergames/Apr201216/game1334595708.ph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erbes au passé composé avec êt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’homme pendu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www.quia.com/hm/181561.htm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Unité 3 : Les grands monst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Le vocabulair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6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1006560" y="612720"/>
            <a:ext cx="693900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dents pointu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3:28:19Z</dcterms:created>
  <dc:creator>Sarah</dc:creator>
  <dc:description/>
  <dc:language>en-US</dc:language>
  <cp:lastModifiedBy>Sarah</cp:lastModifiedBy>
  <dcterms:modified xsi:type="dcterms:W3CDTF">2012-04-27T16:10:34Z</dcterms:modified>
  <cp:revision>13</cp:revision>
  <dc:subject/>
  <dc:title>Révision unité 2 et 3</dc:title>
</cp:coreProperties>
</file>